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F34-4F29-4C02-B439-5C2E1AE0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381-A7BF-482A-944A-CDD1DA6C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8575C-FA67-490F-A9CC-26A07109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78ED3-98BC-4F60-9814-E8DB260A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0A5FF-F241-4127-A1AA-ACF5119B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A1550-DF55-4792-A96A-B55CFEF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83756-1703-4B89-9ADC-B602297F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AD6BE-AD13-4814-BEA7-BD76D8C2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D6C67-286C-49A0-B9A0-C7AA5910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8421E-6BE0-4C2A-BF04-16EF049C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AC900-77A2-4519-91A1-A867CEF0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F4E5D-9AE4-4446-97C0-787B1531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B45-4A27-42D9-9E6B-50F03064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6630F-4DA7-4EB1-9A57-82F09005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611BA-49FE-481F-BE47-0E46E083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8BF71-AE91-4A18-8D2F-D5633CDE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D7BC9-0D42-4A20-89E5-C083465B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F03B9-1D74-4368-9982-D70CF6AC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AC98F-091B-4EFA-91E7-46FC1587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E0B43-DE08-4C8D-9EA8-C7CA8D78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56CA2-3E39-41FA-B7E2-536D597E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0D977-2400-4671-89D3-4F1628FA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370F5-4E15-41C5-9E8B-195E492F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198-32CA-4FAE-B55E-E7751A3D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73572-7EC6-483A-B337-DF70E48C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FC9345-46C6-466E-A120-2A47DE6E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2F61F0-0CE0-4183-A627-ADE7E03C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9FD2D8-3958-46D2-A551-B0EDB575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61E7F4-CEBC-4C36-95B8-3A2CB3E8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3F9F3B-4914-4E25-89DE-5981518B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717A87-9ED9-4B04-8C1A-3D3032EC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5C61CD-3FA3-4E1B-A453-F580CC39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C7E603-20B7-48AA-8CFD-9F9E2368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48DA3F-1200-4A9D-BA11-6E869844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08D9B-EED1-4228-9E41-F25C1DAA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6DD4FE-6301-4BD9-A253-AC443569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CC54FE-368D-4BC6-90FA-A9A95CBB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9EC7C6-FE6C-4403-AEAF-60D14D2A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ECF3E-18F8-4D68-A47C-530C5E8C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BBBA6-8DAF-45D0-AEAE-E9C6B94E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45619-1CE5-4B83-ACBB-9605E9E2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2670D-B22F-4B95-98EE-56915C14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E9AFC-251B-4D10-9BE8-35E03981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82A2C-7FF1-474E-AA66-743F6755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EDBF9-4132-4B76-8B48-4D56A6CF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7CC43-C132-4996-B467-B299487C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CE3B7-7333-496C-91B5-EF29B2D8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D4FA6-9C0B-4BC6-A2F5-57569654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B35FA-69C4-4E5E-9A35-4B4C088F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94700-C040-4D62-A430-6468B4EB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F6D36-51E6-4F2B-957E-31B3D6C8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FCE02-54E5-4409-83EC-05AED8AE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EC842-31AF-471D-8C82-F2FC91D8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5F6CC-F866-4B4A-8091-2AD7A0B8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12D24-3BE9-465C-82CE-B7BBD201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BC8B1-5B51-4D1C-8329-00717251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3C4-3853-4F4A-BB4E-916602A8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7A7FF-8598-4B00-946C-5E2D558B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51DF8-D060-43AB-97EF-F489A113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5C173-DF44-427C-8D96-E452878D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5AD94-5D8E-4ECA-9FA0-673E5827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7D8F3-DEE8-4AF8-A6B9-CA5E9617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04D8F-7F6F-42D6-ADAF-2AA20AB6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D56F-DFD2-43F4-B9A7-9970648D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EF86E-BBE8-4D41-B1E3-BC3A6A07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E7C7-AE74-479D-B3B9-97F3B4DA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AA2F-3783-4ED9-8C08-D7FBCF26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BEB-0B48-4833-ADC1-65614E9F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6C4F-3B7D-424A-861D-C059E7F4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3E6B8-85C0-4E04-A892-209CE9A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796E5-BC61-4035-ABC8-7A329D49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3C25-19E2-423B-9616-4AACB325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7FAD-014D-4A9F-BDFB-65191A0D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88A9-81D6-4C55-9129-A031B4B8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E981-7983-4F4F-9B7B-6D038C3E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FA9C-C75E-4BB6-BB68-CC411528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72224-2D8C-4001-8A8C-875479F3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0652F-B680-4FEE-BE29-3B50E35A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DD4-FDDF-4ABA-AC67-588981D7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2E299-819E-412E-9D82-C8E6FC82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7D071-AC3D-448F-ABC5-BB9A3927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57E6A-08DA-424E-9757-CB3479B7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992F-C791-458B-A124-626B3477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D8F0-AC90-46CE-9DA8-06074951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5C1C-AEA4-4C69-9867-F0207C1C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B0EF2-F055-421D-8305-C9C2D864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15B16-DBEF-4710-A4DF-1FC6FEEA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873D9-A92D-4946-9547-1D92AE29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3E445-EFF8-4D0E-B9A8-E8B71A1E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D4D-BF11-4669-B15A-1A4EE3B5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58D18-D031-40F8-83B0-C062D8F4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2811F-DC45-473D-A621-8367D9B4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CCCFE-DC20-40FD-8621-F3DA5C1F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DC9B7-51D7-4E97-A78C-D7FC3667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89C1E-0337-472A-A96A-E66811E0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BF716-BE16-46A3-B29D-BEAB887B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475BF-E3E2-4478-A5F8-85D08B64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AB08A-0093-4A88-B8FF-F00244F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49B7B-CD51-4747-B7BB-475FC20E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97325-9421-49D5-86C3-7B733C00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3F9-7A06-4F16-809F-2C114CE4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540A-A4BD-4980-8176-107675B0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5FAE3-BD3B-43B1-8A7F-FF6684B1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DDB26-277E-448B-B31B-FDA9EC75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4686C-7C57-402F-80D7-C989CD9F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59F8F-C2FD-4786-8E83-4B76D8FF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96F4F-C3A9-4026-9D11-4831E1CF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04A2B-AC20-4C41-8BDD-95791609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05B5D-85A3-406D-A661-416EEDFC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F07F7-9F6F-405A-AD42-647982F6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60D88-8BA6-4BD2-87F5-9B1F58B8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8BC-8C6E-4174-963F-DD25DEE8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5E6D7-1071-40F4-84D6-02AA77F9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3D1E6-3FBF-415D-B485-184C9E4E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51FF9-3E13-4281-AE4A-EA57FB88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E02C3-AABA-4237-A2B6-A1E5DF64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A22F7-63B3-4CAE-8E6F-C8A4D577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A1087-4C0D-4B97-94F9-CF27B999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23D2D-842E-4AC3-8E22-D514114C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E888D-01B0-43F2-AB10-D914DAD7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1A75E-4943-4C36-9472-5219A8BF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B5FC9-EF2C-4884-9A6F-C6C0B73C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8E7-978E-435C-BA20-6A0C6939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7B1FA-E20D-4C5F-B7D0-D0DE776E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F5C8D-F7BD-44E6-808D-11E22935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0B6F5-460D-4B36-BD35-00B748A4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8B988-58D0-45C9-88DB-87AD8E92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DB580-3FD1-4F9F-901D-6EA53843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B53BA8-8849-4E22-952A-66E007AD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A10F61-AF5E-44B4-9AE1-48286BC5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AD6D87-68C2-41FF-ACB3-5C9686E4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436249-23AB-41C7-8FCC-AB0A7D34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C73ED4-CDD3-4C55-8B00-4AEF98E6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900-9438-44CE-A10B-EB0C59D7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766201-DB45-4278-97F9-7772256A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5DA4A3-29D1-4BD7-A3CF-29F67EFC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4F88C2-124A-45B8-B17A-687E50FA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5C7332-1959-44F9-8100-5DB41480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4FF781-1B14-4188-A2D8-B2C48600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1A68D6-DC09-4218-A338-74B3E6CD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BE7792-717F-4C01-970C-49D1B9F7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93252-3B3E-4473-8DE5-3DC53569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A17FA-6C68-4176-B454-9EDC6AE9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7FCA4-84E7-418E-ADE9-336BCCA9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EEDD-1ABC-462E-AB1B-57276DFA6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3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DE59-DF96-4FE2-A435-5E1551ECB59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2B41-6CF4-41C8-9750-0071A7386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6313-8031-4E6A-962C-E0BEAB1F2B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C5CC-68A9-43B6-BD83-FF4B5B827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DF0D-E045-4A91-92B0-D245E02096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EAF7-438D-4C13-A477-8C0C04F42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F6E1-951D-472C-8F22-AFE673E17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CEC0-86ED-4AD5-B9AB-65417E261B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51B5-3FF2-4234-80DC-2466EB34BD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166A-4A4B-4654-8A72-5076E5742E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5550-10E2-4455-BBEC-0789FFAF5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/&#1047;&#1084;&#1077;&#1103;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leftpic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НУТРЕННИЕ ВОДЫ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ЮЖНОЙ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МЕРИКИ</a:t>
            </a:r>
            <a:br>
              <a:rPr sz="6000"/>
            </a:b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5562720" y="2894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Прямоугольник 4"/>
          <p:cNvSpPr/>
          <p:nvPr/>
        </p:nvSpPr>
        <p:spPr>
          <a:xfrm>
            <a:off x="468360" y="5661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c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36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Водопад Анхель</a:t>
            </a:r>
            <a:br>
              <a:rPr sz="40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292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Самый высокий водопад на планете расположен в юго-восточной части Венесуэлы, в горном массиве Ауян-Тепуи, и носит имя своего первооткрывателя Хуана Анхел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4" descr="АНХЕЛЬ"/>
          <p:cNvPicPr/>
          <p:nvPr/>
        </p:nvPicPr>
        <p:blipFill>
          <a:blip r:embed="rId1"/>
          <a:stretch/>
        </p:blipFill>
        <p:spPr>
          <a:xfrm>
            <a:off x="5364000" y="189000"/>
            <a:ext cx="3456000" cy="57150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5"/>
          <p:cNvSpPr/>
          <p:nvPr/>
        </p:nvSpPr>
        <p:spPr>
          <a:xfrm>
            <a:off x="6470280" y="595152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1054 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1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3889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ff"/>
                </a:solidFill>
                <a:latin typeface="Arial"/>
              </a:rPr>
              <a:t>Парана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1940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ccff"/>
                </a:solidFill>
                <a:latin typeface="Arial"/>
              </a:rPr>
              <a:t>Характеризуется ярко выраженной сезонностью режима. Много порогов и водопад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7" descr="парана"/>
          <p:cNvPicPr/>
          <p:nvPr/>
        </p:nvPicPr>
        <p:blipFill>
          <a:blip r:embed="rId2"/>
          <a:stretch/>
        </p:blipFill>
        <p:spPr>
          <a:xfrm>
            <a:off x="0" y="1700280"/>
            <a:ext cx="4788000" cy="4572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9"/>
          <p:cNvSpPr/>
          <p:nvPr/>
        </p:nvSpPr>
        <p:spPr>
          <a:xfrm>
            <a:off x="4802040" y="40644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4380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Comic Sans MS"/>
              </a:rPr>
              <a:t>Водопад Игуас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2" name="Picture 4" descr="exig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941c"/>
                </a:solidFill>
                <a:latin typeface="Arial"/>
              </a:rPr>
              <a:t>Игуасу-великие воды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4" name="Picture 5" descr="459036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Озеро Титика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406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на языке индейцев-инков- “свинцовая скала”.</a:t>
            </a: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5" descr="Плавучий остров Урос"/>
          <p:cNvPicPr/>
          <p:nvPr/>
        </p:nvPicPr>
        <p:blipFill>
          <a:blip r:embed="rId1"/>
          <a:stretch/>
        </p:blipFill>
        <p:spPr>
          <a:xfrm>
            <a:off x="0" y="2421000"/>
            <a:ext cx="49323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амая полноводная река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 в мире – Амазон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3883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Пиран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Анако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Виктория-Реги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ый высокий водопад в мире - Анхель.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ое большое из высокогорных озер - Титика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43280" y="0"/>
            <a:ext cx="6300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  р  у  п  н  е  й  ш  и  е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ре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363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А м а з о н к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раньо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Укаял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дей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Риу-Негр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Орино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 а р а н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арагва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Сан-Франсиск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Бассейны океанов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468000" y="6858000"/>
            <a:ext cx="69840" cy="7776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Image87"/>
          <p:cNvPicPr/>
          <p:nvPr/>
        </p:nvPicPr>
        <p:blipFill>
          <a:blip r:embed="rId1"/>
          <a:stretch/>
        </p:blipFill>
        <p:spPr>
          <a:xfrm>
            <a:off x="1835280" y="692280"/>
            <a:ext cx="5473440" cy="616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5"/>
          <p:cNvSpPr/>
          <p:nvPr/>
        </p:nvSpPr>
        <p:spPr>
          <a:xfrm rot="16200000">
            <a:off x="-557280" y="30132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Тих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7"/>
          <p:cNvSpPr/>
          <p:nvPr/>
        </p:nvSpPr>
        <p:spPr>
          <a:xfrm rot="5400000">
            <a:off x="6072480" y="3150360"/>
            <a:ext cx="45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Атлантиче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91796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10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47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Бассейн Амазонки"/>
          <p:cNvPicPr/>
          <p:nvPr/>
        </p:nvPicPr>
        <p:blipFill>
          <a:blip r:embed="rId2"/>
          <a:stretch/>
        </p:blipFill>
        <p:spPr>
          <a:xfrm>
            <a:off x="250920" y="1413000"/>
            <a:ext cx="3960720" cy="4897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4716360" cy="28069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0" y="1047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Tahoma"/>
              </a:rPr>
              <a:t>Амазон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4716360" y="333360"/>
            <a:ext cx="33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-6400к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250920" y="623736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7180тыс.кв.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Обитатели Амазон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23" name="Picture 8" descr="анаконда"/>
          <p:cNvPicPr/>
          <p:nvPr/>
        </p:nvPicPr>
        <p:blipFill>
          <a:blip r:embed="rId1"/>
          <a:stretch/>
        </p:blipFill>
        <p:spPr>
          <a:xfrm>
            <a:off x="900000" y="1844640"/>
            <a:ext cx="3527640" cy="42483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9"/>
          <p:cNvSpPr/>
          <p:nvPr/>
        </p:nvSpPr>
        <p:spPr>
          <a:xfrm>
            <a:off x="1166760" y="59500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анако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676760" y="1989000"/>
            <a:ext cx="447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иктория-Рег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6" name="Picture 14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970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Black"/>
              </a:rPr>
              <a:t>пирань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427280" y="1196640"/>
            <a:ext cx="47163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пасны тигры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это ясно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иранья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более опасна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на без ры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и без воя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Съедает в речке всё живо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7" descr="ПИРАНЬЯ"/>
          <p:cNvPicPr/>
          <p:nvPr/>
        </p:nvPicPr>
        <p:blipFill>
          <a:blip r:embed="rId1"/>
          <a:stretch/>
        </p:blipFill>
        <p:spPr>
          <a:xfrm>
            <a:off x="0" y="1989000"/>
            <a:ext cx="4356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Arial"/>
              </a:rPr>
              <a:t>Ориноко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007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В переводе с языка индейцев - Кольчатая </a:t>
            </a:r>
            <a:r>
              <a:rPr b="0" lang="ru-RU" sz="4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мея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450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3:15:11Z</dcterms:created>
  <dc:creator>ioo</dc:creator>
  <dc:description/>
  <dc:language>en-US</dc:language>
  <cp:lastModifiedBy>гелюся</cp:lastModifiedBy>
  <dcterms:modified xsi:type="dcterms:W3CDTF">2013-02-07T19:28:31Z</dcterms:modified>
  <cp:revision>41</cp:revision>
  <dc:subject/>
  <dc:title>ВНУТРЕННИЕ ВОДЫ ЮЖНОЙ АМЕРИКИ</dc:title>
</cp:coreProperties>
</file>